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28-4EA1-441A-9711-BCEA9059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627-5964-4DAF-9192-A7D349AE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4C14A-A471-45E3-BAEC-EF6B1DC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028BD-A1D8-4B08-AA2F-5AB6351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09494-B8BC-4B88-9D65-F6C91D29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1BF6D-C00E-43A1-9BA5-BE15500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33DE8-8329-4FB3-8A6E-5368249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94BDC-E652-4C83-8D6D-4CD17B8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6F57C-0990-4328-92E2-F973DE43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C8E0-364C-4602-8BA2-7BB18EEA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B4FAF-E41B-4458-9456-BD7E1D4C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BD786-510D-40A1-B156-6885B95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DF1-AE3E-4D1E-9F12-6E8EDF7C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F1CC0-41C8-4F8B-B0B0-B86CB400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BBC8-2B80-42E7-BC55-DC39EB2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00EA9-087D-4A12-A820-593F89E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82D9A-D4FB-4D85-B661-BAE2AC2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3BF08-83C0-44E1-815F-4894BAC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AF7C6-55A3-4909-940F-B2E472A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D2DB9-41CA-4DFE-BD20-660E324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DDCA-F1E9-4A05-8A98-38200DC5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39D5B-2033-4BA7-A530-8F68C9C9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F8C0E-4E00-4050-9A3B-F11CFE04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935-0FEE-46DA-AE7B-D2D8650B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81FC9-6338-4490-839C-8E586047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5E10-B9B7-47CF-9C18-10F072E4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0E194-A993-413F-B4C9-29ACD17C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00A51-122D-47A3-9FDF-9126D89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B3172-D863-4E44-A3BD-BEC5C134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3C437-A1DD-4527-8B4C-2A541D3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96F98-2763-4168-B5EC-6F4BA75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F4B9-19AC-47B9-8C80-EAED80E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E50A3-3890-4BEA-BE26-85B623C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DE357-F58F-4020-95E9-DEB9666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208-1691-4B6A-8CA9-DEB8B84E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B06B3-CBEC-43D7-A0EE-55CC7D78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1A72-4776-490F-8614-53E8EFB5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C9449-6B40-41CB-B7B7-6DD43C5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035F-74FF-4245-B2E0-DBA34ED3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35512-E6B3-408B-8D1C-A77E9AF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7C047-4038-4FB9-A91B-9FC8E04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556D1-C694-4F7D-9BAF-371853C5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24CA3-1129-4334-B3E9-AD933F8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3CF25-761C-451D-92EC-74112F7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248FA-BFFB-4DC1-9A75-C6E6B73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5F0-0270-4EDF-AE27-8507151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15FC-84C4-4653-880A-04488C5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5C1F0-E988-4426-8A8B-895326F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D8D22-ED56-47EF-904F-D4E66EB5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50556-BC3A-47E1-B634-7BDE5FB1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4567D-A526-469C-99EA-1A09B393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78332-3FB9-4012-A684-D1CB3EDB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8E51C-AC89-43C4-B6CD-9A52814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0A8BF-5DD5-45A7-8A86-B69FE0D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52CCD-3A01-4F41-861D-AB9AF94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EE973-869F-4BE9-BD7A-C69E0FC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549-DB50-40DE-B7C6-534FB5D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BC3D8-1BAD-441F-8C33-188E850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308AB-55BE-4D37-AF5F-AAA36F6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D48B7-E4D6-425A-8068-079C4F7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A2214-6CBA-4509-B096-8362EFF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2B156-E2ED-4B5A-8516-234D43B2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CD8B7-82F7-41D8-B738-EE1F4ECE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35D25-2DA9-4B14-AA90-11FCCB8E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12938-D1B8-4E10-8930-3444F425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7591F-DD5D-4733-B3C6-78AA18F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E7349-D2ED-4759-BB26-3590A74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4FD-56C1-40EE-B418-B153E2C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7C8BA-2D1C-4659-958E-5500E6E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74C78-F4CA-472B-83D4-1809FC8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D1BB5-0767-46B1-9CEC-FF8FE2B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429F8-E023-432C-B9E7-0F47F26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F127E-A70D-42B8-B2D4-44D2899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7EBA6-9A4C-4468-AE87-D2E8D5E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2CF1B-2D03-4D2E-92BA-91C29A7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51B38-FD44-458B-8920-936ACCE3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6E585-C922-4FE7-AC00-63D7E03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B414C-D45E-452F-9500-4AB5E770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9DF-3283-4D10-8B8D-45AEA612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5DD84-8ECF-4396-811B-CB983B05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61FBF-E018-41ED-8D47-BA259261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A072A-EB71-413B-B2B6-1C3C7A5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3D5DE-8C3D-495A-9A4D-097EF4D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6D9E4-9BB0-45E6-B0DB-15481E9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1A170-ECA6-4365-8E68-D071EC5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B770B-57EF-4FE5-8016-AB40EC8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F8B95-CF7F-43C8-812E-92DC22D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082C9-8681-4F6C-8C99-3F8B498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CBCCD-08F8-4D90-8A83-2E4F357B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4B71-86A3-4861-A9C9-C0FF652B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5419A-3F3A-4BB1-8AAB-B98302B1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86789-BA0D-49A4-9BC6-63209E55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A03FB-6717-4B1A-8EC6-A0738A4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F2191-8DE6-4247-991A-C11F6CB9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3548C-E65B-4791-85DB-54A7878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58060-5503-4F78-A250-4A52951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26D7D-9EED-4F0C-BBFE-E5F9B334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42C2F-1C69-48D8-B85E-06A60E8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4C94E-4F66-49A6-B5D8-54EC48F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C7986-896E-46E2-B70B-0530257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B8E2-9EF8-48E1-89FF-925A7A5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EFC2E-D542-4880-86C2-F42284E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A2AC9-7876-4984-9408-E318AA67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E0FC4-CCC8-4788-B5F9-9409817F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9967F-4579-49C2-AB47-714C65A3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94BD3-E4B2-4803-BB51-B4CAEDC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86E44-F87A-431E-8750-B3E256F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E6E0F-4230-400D-BB41-46E808E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13C9F-860A-4E1B-BE2C-1D1A675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127B3-F7F9-446C-B04C-E423206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F02AA-F4AA-4B08-935B-FBB694B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F4B-DBE1-4CF6-BBC3-50013D1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708-A9F6-4087-B7F3-F916391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8B4D5-13D5-4B79-A224-D3FE0F2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2414D-CE50-44E0-B045-A379A60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D0F57-2A57-4DA6-ACDB-A54354ED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27C91-B0B6-4DD6-8136-3D226FA3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3EA79-18F3-4B37-935D-E8B93BF4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031E0-D3A8-4236-AA17-7E56E943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BC9A5-995F-4279-86D2-3445A249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3E761-0E35-4D5E-877E-37E60166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E1476-2BFA-4C9C-86EB-83D8E7F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3645D-DC95-4261-933B-0F3723A8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971A-DBC0-4F98-AC36-AE115F9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53FBE-3AEA-4208-8B67-5B168A6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D1981-9202-4F44-A060-A4B6F85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C08F6-258F-42E7-9AB3-A78F89C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CB50B-5FFA-45E2-8510-AA94755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2811B-4AF3-4F16-B03D-9927BE0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F0E28-710E-4E2C-BF72-C0A0739E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2DCE3-1B9E-40F8-8BD5-03B838B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D6E36-611A-4583-8137-9E66571D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7BF7B-FBF0-4309-8617-8EF55560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A839B-43AA-4B44-A8DC-BA4BFC44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B326-652D-46B7-8B63-9C9A8D5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7F3B1-7FA8-41C4-B6DA-29E110FA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1CDD8-706E-40F4-AD7C-8219EBD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5813A-B8C4-48A2-A1DF-869ADD57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3F1B4-8EAF-4296-BA10-6D49B40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D297E-5832-4A12-9F61-D95FAD1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AC503-1332-42E4-998C-7962295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FAFAF-D7E2-4887-8C62-B8DC611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D3FE4-EF4E-4D4A-8802-437FB736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396DF3-AB01-48FB-9B23-65FA40E6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AE940-C0AD-4ED5-9EDD-9B1C84D4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081B-B16B-43C2-B2A6-C2ED6A3E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BF7BD-F832-4867-A003-C6D1F132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8C300-BD6E-4046-822F-554C5D0A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5D3A0-205B-41B6-A1DA-00E0994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27DFA-7D02-461A-8915-B08AE69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DEB6F-BC0B-4A58-A61D-F0E1AE4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071DF-7013-40D4-973D-6FB959F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CA0FB-5141-4F1E-B2E1-6924236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26004-877B-4101-A014-0F8412B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3AE80-C3D5-4927-96D8-F2C9500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1BD7D-8DFC-45DF-A496-88EBC210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D44A-A66F-48EF-A586-9215F739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807F0-AD25-4279-84F7-F4F6171A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47BBF-F388-44DD-8CE9-98C6B04A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01D828-460C-4BEB-9857-58FB8B6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47DBD-A828-4F2D-ABBB-B82261D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71A8A-8059-46C0-A742-986B9176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6D7B6-4C4D-46F2-B67C-0D36BE0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29DDF-89D4-4833-A8F0-91936089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992C41-4C92-4E24-ABE0-F525ABFD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CBA53-8E0A-4869-8FB3-82BB871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EA269-1CBE-41D3-8C0E-5BF4595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71CE-4083-4DA9-9E9E-02C3232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BF937-F810-47CB-9C0E-68F0323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C7B383-49D5-497F-A7E5-2B7680CB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8B457-32E1-40C5-83EB-D2C17141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C145-5EDD-4163-A749-DE6986BE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48BF-6583-4B79-A2DC-97488A5F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9CB9-B1E4-4040-BE21-6F083E7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ED1D-C9C8-4A3E-A754-C65A78F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41C-A9E6-42C5-BA8F-9580194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4500-3BD8-434D-AD95-CFF92FA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2100-2AEB-4808-BA41-B81B4A1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8DEE-5562-447C-BCE8-9C7F287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AAF1-6588-45B3-9751-86C35B3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5E91-0E01-4E42-B766-A31930B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80BC-FE92-4F71-8874-12527C4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5D5A-4E45-4912-B8C2-AC603D79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CD26-3FD9-4232-AC5D-F017B815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0695-88EF-4DCD-AA31-BE4A787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F4EE-EA46-40FA-AB7C-B02AF07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9FF-6119-44B1-B8A8-C3F61AC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D57A-10AC-448B-8E9F-F820C83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1AD1-DC49-4961-A54D-FAA69D9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A6C1-1611-4CC6-91EE-D21E3A39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7BC7-296E-46B7-80CF-9013C8B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4D9F-2A5A-4F4C-B12F-AA0618F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7337-48A4-4842-8E56-9AE4A6D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7BF9-5A26-4FBF-A40A-743737E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BC66-6900-4C1A-AC39-6ED4724C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A445-A034-43AB-8EC4-487F4F56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B6D3-E7D3-4061-B3FE-0C503EDB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838-32C7-4139-BB51-4530F654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6698-15A0-4E6A-9955-2F7B090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F8DB-2587-43CD-81AB-4FD77FAD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F7A7-57E6-4D1F-9B8F-5D27177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B3CB-4FB4-4DAA-B274-8DA3223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FA003-C86A-4067-B47C-FC7D0F8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EE4F-F5F4-43AF-9F4C-DE26991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3E10-BB7B-48A5-AFF3-B52D0E5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0E65-C103-41D0-A235-5F8D01E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AC07D-F07E-4EEE-AFE1-63D383F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849E-5202-4EFA-8EEB-69F04A79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7FA-31F5-4985-9A7F-D737C555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BFAA-BB8B-432C-9C8B-2B11AFC1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F3F1-A387-427A-89AF-C8C1C702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53FE-B85F-4BD9-9BA0-078D662D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A53A-302B-4D5E-911A-B2F9CFF0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A0FE-6AFA-4B17-8F96-345124D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ECBA2-6A14-48F7-AE74-A1426A0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1207-3574-46B1-9D0A-A53B5F5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8899-848C-4D5A-B236-D6AAA06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BCC6-3E76-4368-91D0-22FF9A5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85E4-B632-426D-A5CD-8E74C33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CB4-6B6D-47FC-A41A-92C51C3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7FB6-908F-4F5E-9FBA-BF1D83F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34FC-E543-4D39-BCEC-109F71B6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B602-8215-480F-B8C3-5503B29E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FE138-C1EA-4C37-B9DB-976F3263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7D6F-322B-41CF-866D-44F2C79A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3C11-0D03-40A2-AA0D-BAFC9622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F103-83ED-48D3-BF9E-56CC022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A4BE8-BA7E-450B-92A2-82BF1D0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BAD1-20E5-4A0D-A300-3E128FD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13683-8C7F-4A01-B7A8-DF4B356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D59-CFDC-475E-9D45-2C04E8CB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3A7F-E89F-4D1A-B936-5A0E9D6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321A-0403-4221-9B97-06C5DA0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4555-119F-4C94-A5E9-4247899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21C18-3325-475D-A923-A2BCCCA2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8CB4-AA78-414B-B9F3-4227CF96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0F365-A5E8-434E-B86D-10564699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54DA-867A-4CD2-92C4-92850A4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98BC-32FE-4362-AAB2-164A31D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F215-7A6A-4213-95A2-871E8BCC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0B11-FA5A-4FB3-96BF-211E1347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4FA-0FD6-4F55-AC46-36C59E3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5F30-A131-4BD0-BCC8-D7B5EC3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F2AF2-5F31-4997-91B9-654F9BF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B96A-D146-4A83-8F9E-745D283A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CAAE-9C0D-4A10-B8AC-9CE43759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7E71-6B0F-484C-909B-94ED2E9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481E1-1A76-4076-A88C-B60475CC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499A-A7C4-4579-8A24-8D4C3F65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DAD5-524B-416C-9BCB-10597507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CCFE2-E80F-4084-91D6-AC8FD15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3A74-8DC2-41FD-AA07-BA3C8F4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5D6-3DBF-42C0-9512-658E34DF4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57F9-BECF-4097-A245-42941B9B6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860-4822-4F4A-9B22-A2B4A527E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9D5-5D95-4709-83D0-F0DC3EA66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D97-DCFB-4A3B-B808-E38DA5623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A623-AA3A-41F2-ACA8-7D2ADC71D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8186-83EF-42F4-9B58-0F630E066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0BB-3921-4978-B03A-19E3B7AB3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D259-68A0-4A0F-A062-30B2D37DD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82F-8687-49EF-8F9C-29F400D60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7122-7FB2-4DAE-BD00-6ADB0D744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2FD-D5F1-4B84-A736-6B93A382E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A92-6F53-4E98-9B71-8AA12A2EBB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6FC-593C-45C6-9C0B-D3B6DA5EE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7D0-FCB4-4DD0-989A-9DC2853C2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866-0057-4CCF-9F23-729471420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D79D-0E20-4DDB-BBF9-715290A22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79D-A2BC-453D-A970-B5BE07EB9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7F0-79A0-44A8-B551-714288AFA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EBD-B1A2-4C40-953D-DEFB9C817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DDB-2D1A-4809-BDDB-24F45A235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4348-1F82-4701-9490-B2DA12343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B29-C610-40F2-8936-4BE177FA8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0BD-6ED3-4767-B449-DA7C23022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4A7C-96A2-4596-9162-F1C5A6B7B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8F5-5C22-4374-8EE2-391C6F93E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2A0-A80A-451E-BE95-B0BDED436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4BA-F186-487B-9FAE-18E56B70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BDE3-8264-42F0-8036-7B3F9CAF7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6D8-9A05-4129-8538-619496B05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693-B9E3-4BA8-91FE-E2AC1E5AF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D01-F659-4751-80EA-17C533F8E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8521-CEE8-42C2-8C32-8107CE0FD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89C-5F9C-4833-B542-21C24AF03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C13-8BB6-421C-A8C0-5A36D16D1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279-12F5-4EA8-9552-22DC49F66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F530-194A-4743-809D-F52560453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04F-AF7F-488A-90DD-6C907E7C9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455-79C2-48EA-86F0-FE8A27144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3C65-86D4-4C61-AE8F-EEFCB6A29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800520" y="3033720"/>
            <a:ext cx="1542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38120" y="1366920"/>
            <a:ext cx="8267760" cy="412416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500120" y="4286160"/>
            <a:ext cx="92880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571920" y="4286160"/>
            <a:ext cx="107136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214280" y="5072040"/>
            <a:ext cx="678672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429760" cy="50004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143000" y="1357200"/>
            <a:ext cx="742968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857160" y="1785960"/>
            <a:ext cx="4500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857160" y="2214720"/>
            <a:ext cx="5000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1071720" y="5072040"/>
            <a:ext cx="750096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785880" y="5454720"/>
            <a:ext cx="4572000" cy="352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47840" y="738360"/>
            <a:ext cx="824832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99960" y="1414440"/>
            <a:ext cx="83440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614520" y="1386000"/>
            <a:ext cx="7914960" cy="40860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143000" y="13572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214280" y="2214720"/>
            <a:ext cx="500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143000" y="3000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143000" y="3857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143000" y="4643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42800" y="1990800"/>
            <a:ext cx="8258400" cy="28764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857160" y="2000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928800" y="242244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1000080" y="321480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928800" y="364320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1000080" y="407196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14360" y="738360"/>
            <a:ext cx="831528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286840" cy="828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8325000" cy="3238560"/>
          </a:xfrm>
          <a:prstGeom prst="rect">
            <a:avLst/>
          </a:prstGeom>
          <a:ln w="0">
            <a:noFill/>
          </a:ln>
        </p:spPr>
      </p:pic>
      <p:sp>
        <p:nvSpPr>
          <p:cNvPr id="1040" name="矩形 3"/>
          <p:cNvSpPr/>
          <p:nvPr/>
        </p:nvSpPr>
        <p:spPr>
          <a:xfrm>
            <a:off x="928800" y="278604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928800" y="407196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76360" y="1176480"/>
            <a:ext cx="7991280" cy="45050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928800" y="121428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1000080" y="2857680"/>
            <a:ext cx="500040" cy="363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928800" y="4071960"/>
            <a:ext cx="50004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055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6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